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8E44C-D55B-48B8-B308-E5032F23849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1AF06-3E40-4C7E-BBEE-7280CBD7E0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F80-56ED-4894-8C97-6FC0E6D6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89722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8600" y="4317120"/>
            <a:ext cx="89722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8E6-1B3C-4F6B-88EE-6ED64EB9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8600" y="431712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6160" y="431712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4C2-070A-4EB3-8AB6-A4DDF919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2320" y="196056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26400" y="196056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8600" y="431712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2320" y="431712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26400" y="431712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F62-BDE0-4FB6-B9A3-FCBCDCC7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8600" y="1960560"/>
            <a:ext cx="8972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063-F3D3-4BE8-8177-530DD904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8972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6C1-6FBA-4B52-B453-4DC095CF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C01-D75C-4369-9438-7E664654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C9A4-8FDF-4370-B3FB-05802694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8600" y="631800"/>
            <a:ext cx="8972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A0E-4DED-4005-AE23-C8824AFE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8600" y="431712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3B0-FD46-45AB-A7EF-31744C40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6160" y="431712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847-2CB8-4834-BC1E-C2EC441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8600" y="4317120"/>
            <a:ext cx="89722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50E-D0B9-47D0-9DE6-ECCDFFC1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8600" y="1960560"/>
            <a:ext cx="8972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8600" y="659088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69920" y="6590880"/>
            <a:ext cx="315900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8520" y="659088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A5FCA-B390-4485-9DAE-F3A72151AF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8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1601640" y="900000"/>
            <a:ext cx="72406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6520" bIns="45000" anchor="t">
            <a:normAutofit/>
          </a:bodyPr>
          <a:p>
            <a:pPr algn="ctr">
              <a:lnSpc>
                <a:spcPct val="8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Gloriola Std"/>
              </a:rPr>
              <a:t>KARTE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loriola Std"/>
              </a:rPr>
              <a:t>INFORMAZI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11:47:44Z</dcterms:created>
  <dc:creator>Hibai Muniozguren Bilbao</dc:creator>
  <dc:description/>
  <dc:language>en-US</dc:language>
  <cp:lastModifiedBy>Usuario de Microsoft Office</cp:lastModifiedBy>
  <dcterms:modified xsi:type="dcterms:W3CDTF">2020-02-11T16:54:39Z</dcterms:modified>
  <cp:revision>2</cp:revision>
  <dc:subject/>
  <dc:title>Presentación de PowerPoint</dc:title>
</cp:coreProperties>
</file>