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559675" cy="106918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AC769-8BC1-4EFF-A89C-3DAEBB5BC37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7A99A-E66B-40E1-B2EF-F761F0B7296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362320" y="812880"/>
            <a:ext cx="28335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3B6-8120-4F45-A90A-E09AC21E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1280" y="612936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DFA-DE22-46E7-83A7-FCDFA863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524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290-B0A2-44D6-8212-E24CE231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8244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6396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128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8244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6396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756-EECF-42FE-A876-4F81D791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444-D561-4E16-A878-1B8B0D5E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E38-E2E9-4D7D-8E02-1D18254D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05E-40E9-4CFB-8B7D-F903434F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2D5-7454-4BEC-907E-9FDC7EA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1280" y="757080"/>
            <a:ext cx="6154920" cy="77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8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77C-CE41-4BD3-BC96-56A696F2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3B1-8470-4256-96C0-FF6E04AE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524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11E-7298-4E16-8D82-0E155BB2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4BC-2050-4C73-8646-47E63919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8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280" y="9443520"/>
            <a:ext cx="1592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98560" y="9443520"/>
            <a:ext cx="21668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63920" y="9443520"/>
            <a:ext cx="1592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3777B53-2D3A-4487-8DA0-B11139A166E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7559640" cy="10691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144360" y="1457280"/>
            <a:ext cx="72406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6520" bIns="45000" anchor="t">
            <a:normAutofit/>
          </a:bodyPr>
          <a:p>
            <a:pPr algn="ctr">
              <a:lnSpc>
                <a:spcPct val="8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Gloriola Std"/>
              </a:rPr>
              <a:t>KARTE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loriola Std"/>
              </a:rPr>
              <a:t>INFORMAZI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0T16:12:11Z</dcterms:created>
  <dc:creator>Hibai Muniozguren Bilbao</dc:creator>
  <dc:description/>
  <dc:language>en-US</dc:language>
  <cp:lastModifiedBy>Usuario de Microsoft Office</cp:lastModifiedBy>
  <dcterms:modified xsi:type="dcterms:W3CDTF">2020-02-11T16:54:45Z</dcterms:modified>
  <cp:revision>3</cp:revision>
  <dc:subject/>
  <dc:title>Presentación de PowerPoint</dc:title>
</cp:coreProperties>
</file>